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B13-6FAB-417B-BD6B-1C8369BB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4D3-F9AB-479A-A715-C056CB3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9EE-92A0-4607-A863-93363DEE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DC7-6194-4E3E-B64D-8E8BB2E7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9F3-46BC-4F9C-88D0-ECC45521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F3F-8A2E-4AC1-9F20-BE71888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DAB-95E3-4A50-A132-18C675C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C25-C6F8-414A-8803-D952A46A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0DA-297F-493B-B047-E9EBB062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9A4-7B9F-439A-9FE5-F8487F7F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6A5-BD99-4BE5-8CC8-2E2E6D2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C0E-C2B2-45E3-B133-A3E588E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E31D-B403-48CC-8DC5-720BD2238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loradocollege.edu/dept/by/GIFS/monarch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175212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 Study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me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9880" y="533520"/>
            <a:ext cx="25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 organism that eats only plant mat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Herbivo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start of any food chai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Produc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clarity of an im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Resolu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population growth represented by a J-shaped curv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exponential growt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ular Respiration &amp; Fer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leases energy from food in the presence of oxyg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mitochondri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8 ATP’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low-but effic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&amp; H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lease energy from food in the absence of oxyg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cytopla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 ATP’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ast-but not effic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wo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actic Acid &amp; Alcoholi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ctic Acid    vs.    Alcohol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ducted by animals, some bacteria, and a few pla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aste product = lactic ac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ses – yogurt, cheese, &amp; soy sau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5320" y="16761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ducted by bacteria and yea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aste products = ethyl alcohol &amp; carbon dioxid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ses – making beer and wine, gasoline additives, breads &amp; bakery produ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cess that releases energy from glucose molec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curs in mitochond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ctants are glucose and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ts are water, carbon dioxide, and 38 AT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covert light energy into stored chemical energy (glucos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curs in chlorop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ctants are water, carbon dioxide, and light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ts are glucose and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lorophyll is requi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  vs.    Dark Rea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ccurs in the presence of ligh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ight energy is trapped by chlorophyll and splits wa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xygen is relea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+ ion picked up by NADP for dark rea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ccurs all day and for a short time into the dark as long as there is ATP and NADP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akes gluc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bsorbs carbon dioxide from air and combines it with hydrogen from light rea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c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523880"/>
          <a:ext cx="8610480" cy="47196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p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s, waxes, 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 term energy sto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hydr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gars and star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supply of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ymes, keratin, hemoglob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growth and mainten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ic Ac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 &amp; 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e genetic information &amp; control cellular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– structural unit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– group of cells ex. Muscl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 – group of tissues ex. Heart,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 System- group of organs ex. diges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 – a living individual ex. Dog,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 one species in a give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- group of populations in a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me- a complex community that covers large areas and is characterized by distinct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phere- Earth and the layer surround it in which all living things are found – land, sea,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Organelle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am I?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am where protein synthesis occur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Riboso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carry out cellular respi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Mitochondr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contain enzymes to help break down was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Lysoso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am a system of membranes that serve as a transportation syste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ER (Endoplasmic Reticulu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produce spindle fibers in animal cel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Centriol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produce riboso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nucleol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package and ship proteins for the cel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Golgi complex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allow particles to move in and out of the cel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Plasma membra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br>
              <a:rPr sz="9000"/>
            </a:b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br>
              <a:rPr sz="9000"/>
            </a:b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Pyramid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91520" y="1600200"/>
            <a:ext cx="175248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54000"/>
            <a:ext cx="8686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ve    vs.   Active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o energy requir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rom a high to low concent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xamples: diffusion and osmos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acilitated Diffusion –use of transport protei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arrier and channel protei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ergy requir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rom a low to a high concent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xocytosis – “outside the cell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docytosis – “inside the cell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hagocytosis- engulf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inocytosis - liqui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How do cells divide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162920" y="6095880"/>
            <a:ext cx="1143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4757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19520" y="3808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od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Any Questions?????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TUDY, STUDY, STUD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GOOD LUCK ON YOUR EXAM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ins chloroplasts,                      lacks centrioles,                                 cell walls made of cellul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: Plant 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curs in cytoplasm of cells,         break down chemical bonds to release energy, used to make yog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: Lactic Acid Fer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moves into the cell, cytolysis may occur, solution in which the concentration of dissolved particles is lower compared to the inside of th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wer: Hypotonic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the Calvin Cycle, it is the reaction where glucose is produced in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wer: Dark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sk a question, Collect information, Form a hypothesis, Perform an experiment, Observe &amp; record data, Analyze data, State a conclusion, Communicate the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swer: Steps of the scientific meth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eserts, tropical rain forest, tundra, taig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swer: Types of bio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urious about the world, logical, skeptical, persist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swer: Characteristics of a good           scienti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Prophase, Metaphase, Anaphase, Teloph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Answer:  Stages of Mitos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Structural, Developmental, Behavioral, Genetic, Biochemical Similar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             </a:t>
            </a: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Answer: Methods used to classify   organism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Disease, competition, predators, parasites, foo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Answer: Density dependent limiting facto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Name 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That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maximum number of a species that can live in a given 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carrying capacit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variable that is measured to see if any change occurr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dependent variab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type of cell division that occurs in prokaryotes such as bacter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binary fiss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table internal enviro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homeostas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rganisms that look alike and can breed and produce fertile offspring in a natural set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spec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type of protein which lacks some of the essential amino acid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incomplete protei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rst species to appear during primary success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pioneer spec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Glucose and cellulose are examples of this type of compoun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Carbohydra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4:24:42Z</dcterms:created>
  <dc:creator> </dc:creator>
  <dc:description/>
  <dc:language>en-US</dc:language>
  <cp:lastModifiedBy>NHS NPS</cp:lastModifiedBy>
  <dcterms:modified xsi:type="dcterms:W3CDTF">2012-01-16T14:18:24Z</dcterms:modified>
  <cp:revision>10</cp:revision>
  <dc:subject/>
  <dc:title> Biology Study Session First Semester</dc:title>
</cp:coreProperties>
</file>